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580-A708-417F-AED5-CC75160B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F01-43F7-4D03-9BC7-2D07DB6A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F67-1A1A-4473-B8A4-A34CD5F6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552-9DDC-467C-B7FE-48A59249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A0B-9BA5-48B7-ADAA-B4A784D3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682-A3AC-4109-8EAD-5944532A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07D-1F1B-4CBB-865D-CBF7AF3A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56F-E38A-424E-A3E3-8A29A13B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C5AA-3432-4A0E-9A9C-FC354DAD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E53-E10C-41C9-91E2-9B55884F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04FC-9DE4-42B3-A77F-6DF4C841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4167-1E4B-44B7-B992-3D65DBD1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0A16-91CA-4EBA-8E27-2DA1F3FFA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n 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920" y="6093000"/>
            <a:ext cx="38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David Shortis 9P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Lin 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 Onus (William McLintock Onus) was born on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cember 1948. He passed away on October 24,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04000" y="333360"/>
            <a:ext cx="1944720" cy="1057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950840" cy="1127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11640" y="2637000"/>
            <a:ext cx="3470400" cy="3886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314172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 Onus was the only child of a Scottish mother and an Aboriginal fa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as two sons named Kenneth, Tiriki and a daughter named Birral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3716280"/>
            <a:ext cx="1447920" cy="1905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9280" y="5661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 Father Bill O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3716280"/>
            <a:ext cx="3024360" cy="189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32000" y="566100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5661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 Son Tir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More About Lin 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in Onus was a self taught artist who began as a motor mechanic before making artifacts for his fathers business called Aboriginal Enterprises in Belgrave V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4462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Award Winning Pa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His Painting Barmah Forest won Canberra's National Heritage Award in 199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429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ointment to the Australian Council as Chairman of the Artists Management Association in 19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warded with an Order of Australia for his contribution as an Artist and Ambassad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Lin Onus"/>
          <p:cNvPicPr/>
          <p:nvPr/>
        </p:nvPicPr>
        <p:blipFill>
          <a:blip r:embed="rId1"/>
          <a:stretch/>
        </p:blipFill>
        <p:spPr>
          <a:xfrm>
            <a:off x="3419640" y="4581360"/>
            <a:ext cx="173988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me of his many           Pain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04000" y="83664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971880"/>
            <a:ext cx="3611520" cy="2886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3313080" cy="3405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867280" y="3933720"/>
            <a:ext cx="3097440" cy="2752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924360" y="4149720"/>
            <a:ext cx="1722240" cy="2290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348000" y="1557360"/>
            <a:ext cx="34146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9:50:18Z</dcterms:created>
  <dc:creator>Davo</dc:creator>
  <dc:description/>
  <dc:language>en-US</dc:language>
  <cp:lastModifiedBy>Davo</cp:lastModifiedBy>
  <dcterms:modified xsi:type="dcterms:W3CDTF">2008-07-29T11:08:49Z</dcterms:modified>
  <cp:revision>3</cp:revision>
  <dc:subject/>
  <dc:title>Lin Onus</dc:title>
</cp:coreProperties>
</file>